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E69B-71E1-41A9-B654-62DB7397A15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6605-5E32-4AEB-8AA3-350E93952E6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D167-C4F8-4B87-A403-15F832841B5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D2FA-BE1B-4179-9531-7E291D416E0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DE96-C6C7-4D42-A7F0-2D910514354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9CE8-BF90-40BD-AF1C-3DB0F724F86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F5F4-A197-4BC1-B778-6112B658808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4B22-813F-4EE5-BC56-373D0DD004B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A8B2-9FF8-4149-8512-BC0C5565B2A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9D6A-EF99-4994-9CE0-51CF0FCF67D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F7A9-4881-44FA-B837-42116026AD7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7C6B-76BD-4678-895A-FAF8816835A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4F26-CDF2-4E35-8518-1E94733183A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0F15-E76F-493F-80EC-45590A52659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3C9E-9001-4C2C-919D-6EE822AB529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5F2A-D92D-404B-8193-F3AA3887337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3999-59BB-4C65-B853-FD286984451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C735-CFD2-418E-ACE5-EBCD3C20D36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4C18-4D88-47B4-8EF5-94DA96EAF25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8B7E-4DEB-4C8D-84B1-442A90D0009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859C-26D6-40DD-A729-FBB40865677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44EB-2D76-4F0B-812E-62053D5947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6E3C-BC32-4ABB-A54C-548191594A8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4B9E-FC1F-4EC3-9763-0FB33028296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3276-93D3-4CB2-A937-8B944479F1B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E557-2DCF-4B07-9DAA-C8073A69CAF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E9C7-A4A4-4398-85BF-8D47B7789AD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F350-24C0-4E11-98FE-3A562AF1FDF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02BD-2997-408F-9686-2984EFADA8D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7FF7-3A3B-4A84-B938-15FABE97708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15A3-AF9C-4FEF-967B-51C0A34AA23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40F6-E807-4EE7-BACA-3990B55950A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5B4A-0B84-483E-BA9B-0F3673BEB72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D05E-EAFA-44B1-9A18-7EFF579725E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28A3-7160-4A9C-94B4-581B850A7FA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5F3C-876C-446D-9416-E288E731E0A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AAA3-167E-4E69-9DC3-8C9D76BDEBA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PA Department of Education</cp:lastModifiedBy>
  <dcterms:modified xsi:type="dcterms:W3CDTF">2011-03-03T13:13:01Z</dcterms:modified>
  <cp:revision>422</cp:revision>
  <dc:subject/>
  <dc:title>Finding Your Focus</dc:title>
</cp:coreProperties>
</file>